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50E2-5FBF-44F9-899A-A4154C857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CFE8-EF21-4925-B37F-43A1CB04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C2B-DC4B-48D7-AEEF-0DE18B96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20EF-862B-48B3-9A58-8686DE63E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CFC0-8166-486F-8961-04293432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E85-EF8E-4E41-97E0-756720877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AA5-DDAE-47E8-9FB7-091C6BCB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4738-9690-4025-848E-E254B818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7BB-426E-4CF7-8003-383E9991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57D-B4E9-4AE5-874C-B2B24366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8156-1F17-46D5-AC5D-B0736C83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4BC-964B-466A-A024-D6B62A05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&lt;footer&gt;</a:t>
            </a: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02AB-4E3E-4DB7-97C6-C2105E34FC2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39000" y="6400800"/>
            <a:ext cx="1168560" cy="31752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" name="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0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0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FB7F-90D3-4E67-BB6A-901CF863A4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DF1-1E1D-4976-8AAB-DBBD76E059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383-9AAA-450D-B601-369B204602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8CCF-6150-4E01-B0EB-5C2F33EBA4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8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8190-1D1B-4791-9C03-6A24472DD9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7E43-BB31-4543-B37A-88464D1439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E3E-4AFC-4B9C-ABA3-AB8269CBF6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B91-4FBA-4AE2-A812-DAE271AF88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1615-4E74-4853-A263-FDC68C792B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0" dur="1" fill="hold"/>
                                  <p:tgtEl>
                                    <p:spTgt spid="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4275-A82B-4DE7-92CB-A60324D793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4" dur="1" fill="hold"/>
                                  <p:tgtEl>
                                    <p:spTgt spid="1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87A-9707-48AA-A178-2271DD2F1B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3" dur="1" fill="hold"/>
                                  <p:tgtEl>
                                    <p:spTgt spid="1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14" dur="1" fill="hold"/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3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" name="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8 October 2010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846-8574-44C8-AAE6-F5322D3FD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5EA3-8007-4178-9676-EE89F9B8D3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5C6-C5EA-4B70-A933-F519C468BC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8" dur="1" fill="hold"/>
                                  <p:tgtEl>
                                    <p:spTgt spid="10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809-19CF-40A3-89BF-CDF5261282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7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5ED-66F2-4DC6-A457-35A0FFCE24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0BA-DA6B-4442-AA36-631CF3D62D6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3F7-9A0D-4DBE-A3DA-AC6B57567F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20" name="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21" name="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295280"/>
                  <a:gd name="textAreaBottom" fmla="*/ 129564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lnTo>
                      <a:pt x="0" y="12160"/>
                    </a:lnTo>
                    <a:arcTo wR="12427" hR="7314" stAng="10800000" swAng="5400000"/>
                    <a:lnTo>
                      <a:pt x="18078" y="4846"/>
                    </a:lnTo>
                    <a:lnTo>
                      <a:pt x="18078" y="0"/>
                    </a:lnTo>
                    <a:lnTo>
                      <a:pt x="21600" y="6079"/>
                    </a:lnTo>
                    <a:lnTo>
                      <a:pt x="18078" y="12158"/>
                    </a:lnTo>
                    <a:lnTo>
                      <a:pt x="18078" y="7312"/>
                    </a:lnTo>
                    <a:lnTo>
                      <a:pt x="12427" y="7312"/>
                    </a:lnTo>
                    <a:arcTo wR="9961" hR="4848" stAng="16200000" swAng="-5400000"/>
                    <a:lnTo>
                      <a:pt x="2466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27" name="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28" name="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30" name="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8f210b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4" name="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" name="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DBE-D098-404E-B00D-25B21970EB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E34-D03E-4C73-B244-E77A8C42AA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B79-F36D-4288-AACF-C7FD61FBF59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4045-4032-4A41-BA43-4F013C0CA9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DBE-8C1B-4564-A403-AE71A76E96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AA2-1135-40B4-A8A1-32C65D055ED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309B-4EB2-43FE-BD73-CE7AB35A41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5" name="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686-79F2-4C06-9F1E-AD7DAD771B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2EC0-C509-4507-89B9-8FEC67B93A7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19" dur="1" fill="hold"/>
                                  <p:tgtEl>
                                    <p:spTgt spid="17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962A-B03E-4FCE-B9E7-95AA8573B79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574-E3F2-460B-A3B2-5A71116E62E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303200" y="3952800"/>
            <a:ext cx="7691400" cy="24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19E7-D517-4CA2-951F-C23C1244C87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0" name=""/>
          <p:cNvSpPr/>
          <p:nvPr/>
        </p:nvSpPr>
        <p:spPr>
          <a:xfrm>
            <a:off x="907920" y="2438280"/>
            <a:ext cx="7691400" cy="37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532-FDAE-4D9F-9954-A522B45F4B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5880" indent="-3358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27920" indent="-280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81AE-A81A-4942-B42F-924F418D673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AFB-3E89-4966-9E08-8B23CFE2262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169-115E-4E9A-822A-F37D17D83A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6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85" dur="1" fill="hold"/>
                                  <p:tgtEl>
                                    <p:spTgt spid="6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70C-0B98-44F1-A97A-A0F2C71CFC0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4FAA-D479-4C33-B090-8EB35C90B85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ABE-C71F-4E95-993F-9ACEACE68C9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50A0-5F73-444F-B1F6-19B8FC2C842C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89D9-15C9-4A03-8D1A-F9D5B4CF85A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8DB4-7110-4EF0-AF2A-D46CD5B64FD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5C5-42BF-49A8-87F0-678C543EB42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AFFF-43AF-4941-A14A-2D3CC390AE4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9/40 to 11/40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051-A16B-4C7F-805C-29175451213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12920" y="198108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2762-E180-4328-8E6A-724CC20656E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A67-BA97-4046-8378-98EB2CD2FF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292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1440" y="4076640"/>
            <a:ext cx="861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C40B-2B70-4A5B-8C31-6E35B8EA94E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B16-F541-4A4A-B559-AF98C75FB5C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CDB-A588-4543-A902-C27ADBCAC70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3" dur="1" fill="hold"/>
                                  <p:tgtEl>
                                    <p:spTgt spid="2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CAB-AC86-4895-94FC-B50494D66C2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6C04-50C8-449D-8AFF-5B59493B258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7" dur="1" fill="hold"/>
                                  <p:tgtEl>
                                    <p:spTgt spid="2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B75-3D56-404F-9746-DE38025EC52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9E70-432E-4435-B49D-408400B3352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1" dur="1" fill="hold"/>
                                  <p:tgtEl>
                                    <p:spTgt spid="2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is cas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39D-494E-46EA-8D86-4BCBD44488D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2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(Thursday 4 November)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83C-66A2-4741-8BB0-1793C98D90A8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3396-D2AF-412F-B247-22DED961E1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4" dur="1" fill="hold"/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60C-DA43-4BE3-B73C-C437857096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8" dur="1" fill="hold"/>
                                  <p:tgtEl>
                                    <p:spTgt spid="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AE18-C747-47A0-A4A8-85C55F287D7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DBB0-D02E-48BD-95A2-95314AB1FE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4" dur="1" fill="hold"/>
                                  <p:tgtEl>
                                    <p:spTgt spid="7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5" dur="1" fill="hold"/>
                                  <p:tgtEl>
                                    <p:spTgt spid="7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6" dur="1" fill="hold"/>
                                  <p:tgtEl>
                                    <p:spTgt spid="7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87" dur="1" fill="hold"/>
                                  <p:tgtEl>
                                    <p:spTgt spid="7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Administrator</cp:lastModifiedBy>
  <cp:lastPrinted>2004-10-20T13:39:49Z</cp:lastPrinted>
  <dcterms:modified xsi:type="dcterms:W3CDTF">2010-08-27T11:05:23Z</dcterms:modified>
  <cp:revision>76</cp:revision>
  <dc:subject/>
  <dc:title>Aims and Objectives</dc:title>
</cp:coreProperties>
</file>